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204920" y="703440"/>
            <a:ext cx="4694400" cy="35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711360" y="4458960"/>
            <a:ext cx="5680080" cy="4226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41305-5025-4F9E-A41C-B68C17407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67E29-757D-42CF-A650-22F731805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C3064-096C-46ED-AC5D-ED1DA73D1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F1BC4-BB1A-42C9-8328-21EB99D51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30BA1-1BE7-4CAB-8A12-36AED6334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70C80-8806-4E65-94CA-0D6192134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81F26-D256-4AEE-9E0D-94AE36CB4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53A20-C6A4-4B6C-90EC-0724A956A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ACBA0-B8ED-400C-86CD-9F6546C28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D1780-B9EB-413B-8D3E-4060FCB71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22E-004B-42CA-90BB-A3060B75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326-83F1-4680-B7FF-27314EB7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0A1-62FE-4920-AF51-4EB0F99D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867-2C59-4E12-AC7D-305D4BE4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8A42-9E16-462E-B5B7-575D662E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2727-0BAD-49A9-930E-A199B8D1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89BE-E28D-473B-A09C-8095419C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D5D9-D84E-4B3A-B216-E9E35119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8B85-6AA7-4936-8ED6-F8320342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B450-34DA-4C87-844D-178799B2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2A35-700A-459F-960E-52E539E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6B8-4B17-4695-A570-AEEF1CE8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1548-A427-4B66-8180-80A9580D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D58B-1692-4D23-A4F0-D799321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1A01-DBF5-4CF4-890A-E95E4C4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9672-70F5-4957-91CB-940AA2E7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92C8-E8F7-4705-A690-EFDFACBB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779-2380-44C4-8C72-88DAC32E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7EB-4AAB-45B7-A9B0-DFDE725C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4F8-7E06-4414-B1DD-313A2BDC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557-81B8-48DE-B41D-F9D116E7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CF0-4110-4C02-96C1-3B6B129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01A-707A-4A0D-BD85-886963A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804-8EA9-442A-8E7E-8CEB604C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A8AE-C82F-400C-8CB0-CA95560BF9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FF3C-D8DB-4C06-87F7-C0CD6CEC8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edes Inalámbr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ón de redes inalámb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nancia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 la vida nunca se obtiene “algo por nada”, lo mismo aplica en la ganancia de las ant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i la ganancia de una antena sube, el área de cobertura o ángulo, ba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Áreas de cobertura o patrones de radiación son medidos en gr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os ángulos son referidos como ancho del haz y tienen medició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antena teórica (Isot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ica) tiene una perfecta cobertura de 360 grados e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o es una referencia para cualquier ant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219640" y="2205000"/>
            <a:ext cx="3924360" cy="2879640"/>
            <a:chOff x="5219640" y="2205000"/>
            <a:chExt cx="3924360" cy="2879640"/>
          </a:xfrm>
        </p:grpSpPr>
        <p:sp>
          <p:nvSpPr>
            <p:cNvPr id="425" name=""/>
            <p:cNvSpPr/>
            <p:nvPr/>
          </p:nvSpPr>
          <p:spPr>
            <a:xfrm>
              <a:off x="5219640" y="220500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40360" y="2565360"/>
              <a:ext cx="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48360" y="2492280"/>
              <a:ext cx="194472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de l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vertic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19640" y="371628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32720" y="4003560"/>
              <a:ext cx="241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sup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Horizont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40360" y="4365720"/>
              <a:ext cx="7164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 dip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btener ganancia omnidireccional desde una antena iso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ca, los lóbulos de energía son “empujados” desde la parte de arriba y abajo y forzados a salir en un patrón parecido a una d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entras mas alta es la ganancia menor es el ángulo vertical y mayor es el área cubierta por el lóbulo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mnidireccionales de alta gan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omnidireccionales de alta ganancia crean mas área cubierta en distancias largas, pero los niveles de energía directamente debajo de la antena son bajos y la cobertura ahí es muy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500720" y="2133720"/>
            <a:ext cx="4032000" cy="1720440"/>
            <a:chOff x="4500720" y="2133720"/>
            <a:chExt cx="4032000" cy="1720440"/>
          </a:xfrm>
        </p:grpSpPr>
        <p:sp>
          <p:nvSpPr>
            <p:cNvPr id="436" name=""/>
            <p:cNvSpPr/>
            <p:nvPr/>
          </p:nvSpPr>
          <p:spPr>
            <a:xfrm>
              <a:off x="4500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6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6720" y="2349360"/>
              <a:ext cx="0" cy="505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24360" y="2781360"/>
              <a:ext cx="1584360" cy="36036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48360" y="3213000"/>
              <a:ext cx="31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ea de baja cobertura directamente bajo la ant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16720" y="2708280"/>
              <a:ext cx="165564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516720" y="2133720"/>
              <a:ext cx="158436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85080" y="220500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16720" y="2421000"/>
              <a:ext cx="14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cho de h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lej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ensibilidad de recepción del radio es mas alta para bajos rangos de velocidad, de esta manera enlaces de larga distancia pueden ser logrados operando los radios a bajas velocidades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bles de baja perd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po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sensibilida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 ambiente (menos humedad e interferencia desde otras fuentes de radiofrecu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858000" y="3276720"/>
            <a:ext cx="1943280" cy="1809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66716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tancias máx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.4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la distancia máxima entre un cliente y un punto de acceso típicamente no es mayor que 10-12k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Hemos probado conexiones de 25 km con antenas de 18dBi, usando antenas de 25dBi se puede obtener a estas distancias un rendimiento entre redes de 10Mbps con fac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rápi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“DATA RATE” indica que tan rápido la RF pasa datos. Este RF incluye el overhead del sistema de radio, MAS los datos de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” es la ACTUAL cantidad de datos de RED que pasan de una RED a otra. Recuerde que altos “DATA RATES” no significan “ALTOS THROUGHPUT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equeños tienen un overhead mas gr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calidad de señales de RF requieren de retransmisiones y  bajan 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imiento 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inalámbricos se conectan a un punto de acce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2007 clientes inalámb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sistema depende del uso; cuantas computadoras están conectadas detrás de los clientes ruteadores y cuanta información es mand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ejor rendimiento no conecte mas de 30-40 redes con máximo 50 PC’s cada 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 control de ancho de banda con los clientes para asegurar que usen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roveedores reportan 70-90 clientes p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o LANS a un rutead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ntos como tarjetas ethernet tenga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n usar switchs con capacidad de VLANS conectado a un radio que las sopo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4654440"/>
            <a:ext cx="1150920" cy="5032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8800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24360" y="5589720"/>
            <a:ext cx="79236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35640" y="4870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43280" y="5157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3564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8" idx="0"/>
            <a:endCxn id="462" idx="0"/>
          </p:cNvCxnSpPr>
          <p:nvPr/>
        </p:nvCxnSpPr>
        <p:spPr>
          <a:xfrm flipV="1">
            <a:off x="4248000" y="5157360"/>
            <a:ext cx="3960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9" idx="0"/>
            <a:endCxn id="457" idx="3"/>
          </p:cNvCxnSpPr>
          <p:nvPr/>
        </p:nvCxnSpPr>
        <p:spPr>
          <a:xfrm flipH="1" flipV="1">
            <a:off x="5084280" y="5157360"/>
            <a:ext cx="1008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60" idx="0"/>
            <a:endCxn id="463" idx="0"/>
          </p:cNvCxnSpPr>
          <p:nvPr/>
        </p:nvCxnSpPr>
        <p:spPr>
          <a:xfrm flipH="1" flipV="1">
            <a:off x="5579640" y="5157360"/>
            <a:ext cx="5421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067280" y="3933720"/>
            <a:ext cx="1152360" cy="576360"/>
          </a:xfrm>
          <a:prstGeom prst="wedgeRectCallout">
            <a:avLst>
              <a:gd name="adj1" fmla="val -46004"/>
              <a:gd name="adj2" fmla="val 1219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56000" y="4365720"/>
            <a:ext cx="1368360" cy="10810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LAMB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80000" y="501480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73000">
            <a:off x="1474560" y="4149720"/>
            <a:ext cx="444240" cy="936720"/>
          </a:xfrm>
          <a:custGeom>
            <a:avLst/>
            <a:gdLst/>
            <a:ahLst/>
            <a:rect l="l" t="t" r="r" b="b"/>
            <a:pathLst>
              <a:path w="189" h="454">
                <a:moveTo>
                  <a:pt x="0" y="0"/>
                </a:moveTo>
                <a:cubicBezTo>
                  <a:pt x="86" y="75"/>
                  <a:pt x="173" y="151"/>
                  <a:pt x="181" y="227"/>
                </a:cubicBezTo>
                <a:cubicBezTo>
                  <a:pt x="189" y="303"/>
                  <a:pt x="68" y="416"/>
                  <a:pt x="45" y="45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6560" y="4606920"/>
            <a:ext cx="649440" cy="407880"/>
          </a:xfrm>
          <a:custGeom>
            <a:avLst/>
            <a:gdLst/>
            <a:ahLst/>
            <a:rect l="l" t="t" r="r" b="b"/>
            <a:pathLst>
              <a:path w="409" h="257">
                <a:moveTo>
                  <a:pt x="0" y="30"/>
                </a:moveTo>
                <a:cubicBezTo>
                  <a:pt x="91" y="15"/>
                  <a:pt x="182" y="0"/>
                  <a:pt x="227" y="30"/>
                </a:cubicBezTo>
                <a:cubicBezTo>
                  <a:pt x="272" y="60"/>
                  <a:pt x="243" y="173"/>
                  <a:pt x="273" y="211"/>
                </a:cubicBezTo>
                <a:cubicBezTo>
                  <a:pt x="303" y="249"/>
                  <a:pt x="386" y="249"/>
                  <a:pt x="409" y="25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47640" y="465444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nea de vista es OBLIGATORIA para cualquier instalación en enlaces de 2.4GHz y 5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di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e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árboles (las hojas contienen agua que absorbe la energía de R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urvatura de la tierra debe ser tomada en cuenta cuando se instalan las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eptos de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osticando la 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gurando tu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culo de 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ínea de vista desaparece a los 10km por causa de la curvatura de la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79640" y="3284640"/>
            <a:ext cx="4680000" cy="1258920"/>
          </a:xfrm>
          <a:custGeom>
            <a:avLst/>
            <a:gdLst/>
            <a:ahLst/>
            <a:rect l="l" t="t" r="r" b="b"/>
            <a:pathLst>
              <a:path w="3023" h="612">
                <a:moveTo>
                  <a:pt x="3023" y="612"/>
                </a:moveTo>
                <a:cubicBezTo>
                  <a:pt x="2732" y="408"/>
                  <a:pt x="2441" y="204"/>
                  <a:pt x="2116" y="113"/>
                </a:cubicBezTo>
                <a:cubicBezTo>
                  <a:pt x="1791" y="22"/>
                  <a:pt x="1398" y="0"/>
                  <a:pt x="1073" y="68"/>
                </a:cubicBezTo>
                <a:cubicBezTo>
                  <a:pt x="748" y="136"/>
                  <a:pt x="332" y="438"/>
                  <a:pt x="166" y="521"/>
                </a:cubicBezTo>
                <a:cubicBezTo>
                  <a:pt x="0" y="604"/>
                  <a:pt x="37" y="585"/>
                  <a:pt x="75" y="56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700360" y="3357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40000" y="3213000"/>
            <a:ext cx="367200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66920" y="342900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724000" y="3213000"/>
            <a:ext cx="287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Zona de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1280" y="4076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Zona de fresnel es el área alrededor de la línea de vista donde las ondas de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 área debe estar libre de obstáculos, de otra manera la fuerza y la calidad de la señal ira a la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08000" y="2133720"/>
            <a:ext cx="53294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8000" y="242100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2133720"/>
            <a:ext cx="2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92360" y="2205000"/>
            <a:ext cx="215640" cy="432000"/>
            <a:chOff x="1692360" y="2205000"/>
            <a:chExt cx="215640" cy="432000"/>
          </a:xfrm>
        </p:grpSpPr>
        <p:sp>
          <p:nvSpPr>
            <p:cNvPr id="488" name=""/>
            <p:cNvSpPr/>
            <p:nvPr/>
          </p:nvSpPr>
          <p:spPr>
            <a:xfrm>
              <a:off x="1692360" y="2205000"/>
              <a:ext cx="144360" cy="432000"/>
            </a:xfrm>
            <a:custGeom>
              <a:avLst/>
              <a:gdLst/>
              <a:ahLst/>
              <a:rect l="l" t="t" r="r" b="b"/>
              <a:pathLst>
                <a:path w="91" h="272">
                  <a:moveTo>
                    <a:pt x="91" y="0"/>
                  </a:moveTo>
                  <a:cubicBezTo>
                    <a:pt x="45" y="45"/>
                    <a:pt x="0" y="91"/>
                    <a:pt x="0" y="136"/>
                  </a:cubicBezTo>
                  <a:cubicBezTo>
                    <a:pt x="0" y="181"/>
                    <a:pt x="76" y="249"/>
                    <a:pt x="91" y="2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92360" y="24210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236000" y="2205000"/>
            <a:ext cx="144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7308720" y="2491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ree"/>
          <p:cNvSpPr/>
          <p:nvPr/>
        </p:nvSpPr>
        <p:spPr>
          <a:xfrm>
            <a:off x="5724360" y="2565360"/>
            <a:ext cx="576360" cy="792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ree"/>
          <p:cNvSpPr/>
          <p:nvPr/>
        </p:nvSpPr>
        <p:spPr>
          <a:xfrm>
            <a:off x="5076720" y="2637000"/>
            <a:ext cx="576360" cy="792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ree"/>
          <p:cNvSpPr/>
          <p:nvPr/>
        </p:nvSpPr>
        <p:spPr>
          <a:xfrm>
            <a:off x="5219640" y="2565360"/>
            <a:ext cx="720720" cy="10796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92360" y="242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20000" y="2852640"/>
            <a:ext cx="936720" cy="72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2997360"/>
            <a:ext cx="936360" cy="57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ndo el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nstruya una estructura alta (torre) donde montar la anten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Incremente la altura de la torre existen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Localice un diferente punto de montaje para la anten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rte los árboles problemáticos  </a:t>
            </a:r>
            <a:r>
              <a:rPr b="0" lang="es-ES_tradnl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ñ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eñales Multipath pueden causar altas tasas de fuerza de señal de RF, pero pobres niveles de calidad de 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iend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FUERZA de RF no significan pobre comunic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calidad SIGNIFICAN pobr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cción del 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ores deben ser sellados para protegerlos de la corro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cinta vulcanizable, recom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nta aislante de vinilo NO es recomendab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ineación de la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juste la antena y manten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arización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ajusta, de ser posible, verif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ueba de ancho de banda si el radio lo per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 son mas difíciles de orientar que las de baja ganancia debido a la estrechez del h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 rot="1268400">
            <a:off x="6588000" y="2276640"/>
            <a:ext cx="187164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en su red inalámb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ga una lista de direcciones MAC de los clientes que se conectan a su Punto de Acceso (A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 usar encr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wep, pero hará su red mas lenta y adicionalmente ya es una seguridad “insegu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nto a punto o Punto 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ridge o rute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DS adiciona nuevas características para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64000" y="1916280"/>
            <a:ext cx="505080" cy="1441440"/>
            <a:chOff x="5364000" y="1916280"/>
            <a:chExt cx="505080" cy="1441440"/>
          </a:xfrm>
        </p:grpSpPr>
        <p:sp>
          <p:nvSpPr>
            <p:cNvPr id="225" name=""/>
            <p:cNvSpPr/>
            <p:nvPr/>
          </p:nvSpPr>
          <p:spPr>
            <a:xfrm>
              <a:off x="5435640" y="30686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64000" y="191628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>
              <a:stCxn id="226" idx="2"/>
              <a:endCxn id="225" idx="0"/>
            </p:cNvCxnSpPr>
            <p:nvPr/>
          </p:nvCxnSpPr>
          <p:spPr>
            <a:xfrm>
              <a:off x="5616360" y="2276640"/>
              <a:ext cx="35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8" name=""/>
          <p:cNvGrpSpPr/>
          <p:nvPr/>
        </p:nvGrpSpPr>
        <p:grpSpPr>
          <a:xfrm>
            <a:off x="6515280" y="1989000"/>
            <a:ext cx="2089080" cy="1225800"/>
            <a:chOff x="6515280" y="1989000"/>
            <a:chExt cx="2089080" cy="1225800"/>
          </a:xfrm>
        </p:grpSpPr>
        <p:sp>
          <p:nvSpPr>
            <p:cNvPr id="229" name=""/>
            <p:cNvSpPr/>
            <p:nvPr/>
          </p:nvSpPr>
          <p:spPr>
            <a:xfrm>
              <a:off x="651528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128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764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6000" y="198900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7236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29" idx="0"/>
              <a:endCxn id="232" idx="2"/>
            </p:cNvCxnSpPr>
            <p:nvPr/>
          </p:nvCxnSpPr>
          <p:spPr>
            <a:xfrm flipV="1">
              <a:off x="6730920" y="234864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30" idx="0"/>
              <a:endCxn id="232" idx="2"/>
            </p:cNvCxnSpPr>
            <p:nvPr/>
          </p:nvCxnSpPr>
          <p:spPr>
            <a:xfrm flipV="1">
              <a:off x="7306920" y="234864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1" idx="0"/>
              <a:endCxn id="232" idx="2"/>
            </p:cNvCxnSpPr>
            <p:nvPr/>
          </p:nvCxnSpPr>
          <p:spPr>
            <a:xfrm flipH="1" flipV="1">
              <a:off x="7488000" y="234864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3" idx="0"/>
              <a:endCxn id="232" idx="2"/>
            </p:cNvCxnSpPr>
            <p:nvPr/>
          </p:nvCxnSpPr>
          <p:spPr>
            <a:xfrm flipH="1" flipV="1">
              <a:off x="7488000" y="234864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4427640" y="3933720"/>
            <a:ext cx="4394160" cy="1225800"/>
            <a:chOff x="4427640" y="3933720"/>
            <a:chExt cx="4394160" cy="1225800"/>
          </a:xfrm>
        </p:grpSpPr>
        <p:sp>
          <p:nvSpPr>
            <p:cNvPr id="239" name=""/>
            <p:cNvSpPr/>
            <p:nvPr/>
          </p:nvSpPr>
          <p:spPr>
            <a:xfrm>
              <a:off x="673272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08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8508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344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98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"/>
            <p:cNvCxnSpPr>
              <a:stCxn id="239" idx="0"/>
              <a:endCxn id="242" idx="2"/>
            </p:cNvCxnSpPr>
            <p:nvPr/>
          </p:nvCxnSpPr>
          <p:spPr>
            <a:xfrm flipV="1">
              <a:off x="694836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>
              <a:stCxn id="240" idx="0"/>
              <a:endCxn id="242" idx="2"/>
            </p:cNvCxnSpPr>
            <p:nvPr/>
          </p:nvCxnSpPr>
          <p:spPr>
            <a:xfrm flipV="1">
              <a:off x="752436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1" idx="0"/>
              <a:endCxn id="242" idx="2"/>
            </p:cNvCxnSpPr>
            <p:nvPr/>
          </p:nvCxnSpPr>
          <p:spPr>
            <a:xfrm flipH="1" flipV="1">
              <a:off x="770544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>
              <a:stCxn id="243" idx="0"/>
              <a:endCxn id="242" idx="2"/>
            </p:cNvCxnSpPr>
            <p:nvPr/>
          </p:nvCxnSpPr>
          <p:spPr>
            <a:xfrm flipH="1" flipV="1">
              <a:off x="770544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442764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800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836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84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"/>
            <p:cNvCxnSpPr>
              <a:stCxn id="248" idx="0"/>
              <a:endCxn id="251" idx="2"/>
            </p:cNvCxnSpPr>
            <p:nvPr/>
          </p:nvCxnSpPr>
          <p:spPr>
            <a:xfrm flipV="1">
              <a:off x="464328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49" idx="0"/>
              <a:endCxn id="251" idx="2"/>
            </p:cNvCxnSpPr>
            <p:nvPr/>
          </p:nvCxnSpPr>
          <p:spPr>
            <a:xfrm flipV="1">
              <a:off x="521928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50" idx="0"/>
              <a:endCxn id="251" idx="2"/>
            </p:cNvCxnSpPr>
            <p:nvPr/>
          </p:nvCxnSpPr>
          <p:spPr>
            <a:xfrm flipH="1" flipV="1">
              <a:off x="540036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6" name=""/>
            <p:cNvCxnSpPr>
              <a:stCxn id="252" idx="0"/>
              <a:endCxn id="251" idx="2"/>
            </p:cNvCxnSpPr>
            <p:nvPr/>
          </p:nvCxnSpPr>
          <p:spPr>
            <a:xfrm flipH="1" flipV="1">
              <a:off x="540036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51" idx="3"/>
              <a:endCxn id="242" idx="1"/>
            </p:cNvCxnSpPr>
            <p:nvPr/>
          </p:nvCxnSpPr>
          <p:spPr>
            <a:xfrm>
              <a:off x="5652720" y="4114440"/>
              <a:ext cx="1801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</p:cxnSp>
      </p:grpSp>
      <p:grpSp>
        <p:nvGrpSpPr>
          <p:cNvPr id="258" name=""/>
          <p:cNvGrpSpPr/>
          <p:nvPr/>
        </p:nvGrpSpPr>
        <p:grpSpPr>
          <a:xfrm>
            <a:off x="5292720" y="5589720"/>
            <a:ext cx="2664000" cy="360360"/>
            <a:chOff x="5292720" y="5589720"/>
            <a:chExt cx="2664000" cy="360360"/>
          </a:xfrm>
        </p:grpSpPr>
        <p:sp>
          <p:nvSpPr>
            <p:cNvPr id="259" name=""/>
            <p:cNvSpPr/>
            <p:nvPr/>
          </p:nvSpPr>
          <p:spPr>
            <a:xfrm>
              <a:off x="7451640" y="558972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5589720"/>
              <a:ext cx="50472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60" idx="3"/>
              <a:endCxn id="259" idx="1"/>
            </p:cNvCxnSpPr>
            <p:nvPr/>
          </p:nvCxnSpPr>
          <p:spPr>
            <a:xfrm>
              <a:off x="5797080" y="5770080"/>
              <a:ext cx="1654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</p:cxnSp>
      </p:grpSp>
      <p:sp>
        <p:nvSpPr>
          <p:cNvPr id="262" name=""/>
          <p:cNvSpPr/>
          <p:nvPr/>
        </p:nvSpPr>
        <p:spPr>
          <a:xfrm>
            <a:off x="6012000" y="3716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37372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ándares sopor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b: 11mbps a 2412-2462MHz (11 canales, solo tres sin trasl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a: 54mbps a 5180-5320MHz y 5745-5805MHz (12 de los canales s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lap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, 108Mbps Modo Turbo (4 c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g: 54mbps a 2412-2472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b/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414936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)  canales de 22 MHz de ancho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anales sin trasl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Access Points puéden ocupar la misma area sin interferirse entre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7200" y="1608120"/>
            <a:ext cx="7115400" cy="2276640"/>
            <a:chOff x="727200" y="1608120"/>
            <a:chExt cx="7115400" cy="2276640"/>
          </a:xfrm>
        </p:grpSpPr>
        <p:sp>
          <p:nvSpPr>
            <p:cNvPr id="269" name=""/>
            <p:cNvSpPr/>
            <p:nvPr/>
          </p:nvSpPr>
          <p:spPr>
            <a:xfrm>
              <a:off x="3343320" y="3521160"/>
              <a:ext cx="1940040" cy="30312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4"/>
                  </a:lnTo>
                  <a:lnTo>
                    <a:pt x="1220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3" y="23"/>
                  </a:lnTo>
                  <a:lnTo>
                    <a:pt x="885" y="19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4" y="33"/>
                  </a:lnTo>
                  <a:lnTo>
                    <a:pt x="223" y="46"/>
                  </a:lnTo>
                  <a:lnTo>
                    <a:pt x="179" y="59"/>
                  </a:lnTo>
                  <a:lnTo>
                    <a:pt x="137" y="71"/>
                  </a:lnTo>
                  <a:lnTo>
                    <a:pt x="103" y="86"/>
                  </a:lnTo>
                  <a:lnTo>
                    <a:pt x="72" y="101"/>
                  </a:lnTo>
                  <a:lnTo>
                    <a:pt x="46" y="117"/>
                  </a:lnTo>
                  <a:lnTo>
                    <a:pt x="28" y="134"/>
                  </a:lnTo>
                  <a:lnTo>
                    <a:pt x="13" y="153"/>
                  </a:lnTo>
                  <a:lnTo>
                    <a:pt x="7" y="172"/>
                  </a:lnTo>
                  <a:lnTo>
                    <a:pt x="7" y="191"/>
                  </a:lnTo>
                  <a:lnTo>
                    <a:pt x="0" y="174"/>
                  </a:lnTo>
                  <a:lnTo>
                    <a:pt x="1222" y="174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064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3732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8" y="145"/>
                  </a:lnTo>
                  <a:lnTo>
                    <a:pt x="1202" y="137"/>
                  </a:lnTo>
                  <a:lnTo>
                    <a:pt x="1185" y="120"/>
                  </a:lnTo>
                  <a:lnTo>
                    <a:pt x="1175" y="112"/>
                  </a:lnTo>
                  <a:lnTo>
                    <a:pt x="1162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3" y="74"/>
                  </a:lnTo>
                  <a:lnTo>
                    <a:pt x="1086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2"/>
                  </a:lnTo>
                  <a:lnTo>
                    <a:pt x="935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5"/>
                  </a:lnTo>
                  <a:lnTo>
                    <a:pt x="832" y="11"/>
                  </a:lnTo>
                  <a:lnTo>
                    <a:pt x="805" y="9"/>
                  </a:lnTo>
                  <a:lnTo>
                    <a:pt x="777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9"/>
                  </a:lnTo>
                  <a:lnTo>
                    <a:pt x="382" y="17"/>
                  </a:lnTo>
                  <a:lnTo>
                    <a:pt x="325" y="23"/>
                  </a:lnTo>
                  <a:lnTo>
                    <a:pt x="273" y="34"/>
                  </a:lnTo>
                  <a:lnTo>
                    <a:pt x="222" y="44"/>
                  </a:lnTo>
                  <a:lnTo>
                    <a:pt x="178" y="57"/>
                  </a:lnTo>
                  <a:lnTo>
                    <a:pt x="136" y="70"/>
                  </a:lnTo>
                  <a:lnTo>
                    <a:pt x="103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2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74880" y="1932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9080" y="190800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7200" y="3857760"/>
              <a:ext cx="703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288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307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4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9732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512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0524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22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97760" y="1878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76920" y="1928880"/>
              <a:ext cx="180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90680" y="3112920"/>
              <a:ext cx="1940040" cy="30024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3"/>
                  </a:lnTo>
                  <a:lnTo>
                    <a:pt x="1220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6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6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6" y="9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2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2" y="101"/>
                  </a:lnTo>
                  <a:lnTo>
                    <a:pt x="47" y="116"/>
                  </a:lnTo>
                  <a:lnTo>
                    <a:pt x="28" y="135"/>
                  </a:lnTo>
                  <a:lnTo>
                    <a:pt x="13" y="152"/>
                  </a:lnTo>
                  <a:lnTo>
                    <a:pt x="7" y="170"/>
                  </a:lnTo>
                  <a:lnTo>
                    <a:pt x="7" y="189"/>
                  </a:lnTo>
                  <a:lnTo>
                    <a:pt x="0" y="173"/>
                  </a:lnTo>
                  <a:lnTo>
                    <a:pt x="1222" y="173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27520" y="312732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2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4880" y="2749680"/>
              <a:ext cx="1940040" cy="29988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2"/>
                  </a:lnTo>
                  <a:lnTo>
                    <a:pt x="1220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11"/>
                  </a:lnTo>
                  <a:lnTo>
                    <a:pt x="381" y="17"/>
                  </a:lnTo>
                  <a:lnTo>
                    <a:pt x="324" y="25"/>
                  </a:lnTo>
                  <a:lnTo>
                    <a:pt x="271" y="34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2" y="101"/>
                  </a:lnTo>
                  <a:lnTo>
                    <a:pt x="46" y="118"/>
                  </a:lnTo>
                  <a:lnTo>
                    <a:pt x="28" y="135"/>
                  </a:lnTo>
                  <a:lnTo>
                    <a:pt x="13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2"/>
                  </a:lnTo>
                  <a:lnTo>
                    <a:pt x="1222" y="172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6360" y="2416320"/>
              <a:ext cx="193860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3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8" y="145"/>
                  </a:lnTo>
                  <a:lnTo>
                    <a:pt x="1202" y="136"/>
                  </a:lnTo>
                  <a:lnTo>
                    <a:pt x="1185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49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3" y="73"/>
                  </a:lnTo>
                  <a:lnTo>
                    <a:pt x="1086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7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4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3" y="25"/>
                  </a:lnTo>
                  <a:lnTo>
                    <a:pt x="271" y="33"/>
                  </a:lnTo>
                  <a:lnTo>
                    <a:pt x="222" y="46"/>
                  </a:lnTo>
                  <a:lnTo>
                    <a:pt x="178" y="59"/>
                  </a:lnTo>
                  <a:lnTo>
                    <a:pt x="136" y="71"/>
                  </a:lnTo>
                  <a:lnTo>
                    <a:pt x="100" y="86"/>
                  </a:lnTo>
                  <a:lnTo>
                    <a:pt x="71" y="101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2" y="153"/>
                  </a:lnTo>
                  <a:lnTo>
                    <a:pt x="6" y="172"/>
                  </a:lnTo>
                  <a:lnTo>
                    <a:pt x="6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81480" y="2762280"/>
              <a:ext cx="1938240" cy="304920"/>
            </a:xfrm>
            <a:custGeom>
              <a:avLst/>
              <a:gdLst/>
              <a:ahLst/>
              <a:rect l="l" t="t" r="r" b="b"/>
              <a:pathLst>
                <a:path w="1221" h="192">
                  <a:moveTo>
                    <a:pt x="1221" y="183"/>
                  </a:moveTo>
                  <a:lnTo>
                    <a:pt x="1221" y="175"/>
                  </a:lnTo>
                  <a:lnTo>
                    <a:pt x="1219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2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2" y="24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50" y="5"/>
                  </a:lnTo>
                  <a:lnTo>
                    <a:pt x="721" y="3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5"/>
                  </a:lnTo>
                  <a:lnTo>
                    <a:pt x="441" y="11"/>
                  </a:lnTo>
                  <a:lnTo>
                    <a:pt x="383" y="17"/>
                  </a:lnTo>
                  <a:lnTo>
                    <a:pt x="326" y="26"/>
                  </a:lnTo>
                  <a:lnTo>
                    <a:pt x="273" y="34"/>
                  </a:lnTo>
                  <a:lnTo>
                    <a:pt x="225" y="47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7"/>
                  </a:lnTo>
                  <a:lnTo>
                    <a:pt x="74" y="101"/>
                  </a:lnTo>
                  <a:lnTo>
                    <a:pt x="48" y="118"/>
                  </a:lnTo>
                  <a:lnTo>
                    <a:pt x="29" y="135"/>
                  </a:lnTo>
                  <a:lnTo>
                    <a:pt x="15" y="154"/>
                  </a:lnTo>
                  <a:lnTo>
                    <a:pt x="8" y="173"/>
                  </a:lnTo>
                  <a:lnTo>
                    <a:pt x="8" y="192"/>
                  </a:lnTo>
                  <a:lnTo>
                    <a:pt x="0" y="175"/>
                  </a:lnTo>
                  <a:lnTo>
                    <a:pt x="1221" y="175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43280" y="208296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0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10"/>
                  </a:lnTo>
                  <a:lnTo>
                    <a:pt x="382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1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68920" y="2386080"/>
              <a:ext cx="1938240" cy="2998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4" y="25"/>
                  </a:lnTo>
                  <a:lnTo>
                    <a:pt x="271" y="33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1" y="101"/>
                  </a:lnTo>
                  <a:lnTo>
                    <a:pt x="46" y="118"/>
                  </a:lnTo>
                  <a:lnTo>
                    <a:pt x="27" y="134"/>
                  </a:lnTo>
                  <a:lnTo>
                    <a:pt x="12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35480" y="2004840"/>
              <a:ext cx="1940040" cy="30348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5"/>
                  </a:lnTo>
                  <a:lnTo>
                    <a:pt x="1220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3" y="23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6"/>
                  </a:lnTo>
                  <a:lnTo>
                    <a:pt x="751" y="4"/>
                  </a:lnTo>
                  <a:lnTo>
                    <a:pt x="721" y="2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1"/>
                  </a:lnTo>
                  <a:lnTo>
                    <a:pt x="383" y="17"/>
                  </a:lnTo>
                  <a:lnTo>
                    <a:pt x="326" y="25"/>
                  </a:lnTo>
                  <a:lnTo>
                    <a:pt x="274" y="34"/>
                  </a:lnTo>
                  <a:lnTo>
                    <a:pt x="225" y="46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6"/>
                  </a:lnTo>
                  <a:lnTo>
                    <a:pt x="74" y="101"/>
                  </a:lnTo>
                  <a:lnTo>
                    <a:pt x="49" y="118"/>
                  </a:lnTo>
                  <a:lnTo>
                    <a:pt x="30" y="135"/>
                  </a:lnTo>
                  <a:lnTo>
                    <a:pt x="15" y="154"/>
                  </a:lnTo>
                  <a:lnTo>
                    <a:pt x="9" y="173"/>
                  </a:lnTo>
                  <a:lnTo>
                    <a:pt x="9" y="191"/>
                  </a:lnTo>
                  <a:lnTo>
                    <a:pt x="0" y="175"/>
                  </a:lnTo>
                  <a:lnTo>
                    <a:pt x="1222" y="175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90640" y="2068560"/>
              <a:ext cx="1440" cy="17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48640" y="2085840"/>
              <a:ext cx="1440" cy="177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4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92480" y="163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2800" y="161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076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70280" y="162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1880" y="1608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260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62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632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0640" y="1617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600" y="1620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28920" y="1808280"/>
              <a:ext cx="548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4800" y="1835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76120" y="16923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8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50846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2)  canales de 20 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 canales de 40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42160" y="1628640"/>
            <a:ext cx="7710120" cy="3438720"/>
            <a:chOff x="542160" y="1628640"/>
            <a:chExt cx="7710120" cy="3438720"/>
          </a:xfrm>
        </p:grpSpPr>
        <p:sp>
          <p:nvSpPr>
            <p:cNvPr id="311" name=""/>
            <p:cNvSpPr/>
            <p:nvPr/>
          </p:nvSpPr>
          <p:spPr>
            <a:xfrm>
              <a:off x="370512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40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9708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6216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580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8640" y="2994120"/>
              <a:ext cx="729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7080" y="1989000"/>
              <a:ext cx="1800" cy="98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28000" y="2060640"/>
              <a:ext cx="936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589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43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16000" y="1844640"/>
              <a:ext cx="648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2160" y="30700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18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54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88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530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29080" y="2637000"/>
              <a:ext cx="863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236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1672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8036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8800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34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85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60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196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22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072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328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4692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85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1672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03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440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90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41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7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0144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68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2728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63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600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9236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84720" y="213372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19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12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4108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8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9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9564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072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2436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3200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8560" y="4797360"/>
              <a:ext cx="345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8560" y="3789360"/>
              <a:ext cx="1440" cy="9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6000" y="3860640"/>
              <a:ext cx="972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88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5164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4560" y="3645000"/>
              <a:ext cx="3025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3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3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0000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6364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1528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8036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9092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15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4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7892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4220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8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0764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1236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4560" y="4076640"/>
              <a:ext cx="172692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6436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9164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3280" y="4076640"/>
              <a:ext cx="172728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12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847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56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9272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0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cuencias a la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orta las  de la ban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frecuencias a la medida para tarjet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he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24360" y="422100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2852640"/>
            <a:ext cx="1152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12-2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24000" y="2852640"/>
            <a:ext cx="115272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12-24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95640" y="2852640"/>
            <a:ext cx="1152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12-2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2852640"/>
            <a:ext cx="360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3932280"/>
            <a:ext cx="3024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20-5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3932280"/>
            <a:ext cx="244764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80-5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27640" y="3933720"/>
            <a:ext cx="1729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30-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5013360"/>
            <a:ext cx="1944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5013360"/>
            <a:ext cx="129528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45-5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6720" y="5013360"/>
            <a:ext cx="3456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15-6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386064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494172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figuraciones importantes en la int. inalámbrica en el Rout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-bridge o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ción o 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SID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nda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ecuencia (ap-bridge y modo bri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sta de búsqueda (scan) (station m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12000" y="2349360"/>
            <a:ext cx="2592000" cy="1583640"/>
            <a:chOff x="6012000" y="2349360"/>
            <a:chExt cx="2592000" cy="1583640"/>
          </a:xfrm>
        </p:grpSpPr>
        <p:sp>
          <p:nvSpPr>
            <p:cNvPr id="409" name=""/>
            <p:cNvSpPr/>
            <p:nvPr/>
          </p:nvSpPr>
          <p:spPr>
            <a:xfrm>
              <a:off x="601200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2660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192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06240" y="2349360"/>
              <a:ext cx="626040" cy="465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6796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"/>
            <p:cNvCxnSpPr>
              <a:stCxn id="409" idx="0"/>
              <a:endCxn id="412" idx="2"/>
            </p:cNvCxnSpPr>
            <p:nvPr/>
          </p:nvCxnSpPr>
          <p:spPr>
            <a:xfrm flipV="1">
              <a:off x="6279480" y="2814120"/>
              <a:ext cx="94032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5" name=""/>
            <p:cNvCxnSpPr>
              <a:stCxn id="410" idx="0"/>
              <a:endCxn id="412" idx="2"/>
            </p:cNvCxnSpPr>
            <p:nvPr/>
          </p:nvCxnSpPr>
          <p:spPr>
            <a:xfrm flipV="1">
              <a:off x="6994440" y="2814120"/>
              <a:ext cx="22536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411" idx="0"/>
              <a:endCxn id="412" idx="2"/>
            </p:cNvCxnSpPr>
            <p:nvPr/>
          </p:nvCxnSpPr>
          <p:spPr>
            <a:xfrm flipH="1" flipV="1">
              <a:off x="7219080" y="2814120"/>
              <a:ext cx="4910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"/>
            <p:cNvCxnSpPr>
              <a:stCxn id="413" idx="0"/>
              <a:endCxn id="412" idx="2"/>
            </p:cNvCxnSpPr>
            <p:nvPr/>
          </p:nvCxnSpPr>
          <p:spPr>
            <a:xfrm flipH="1" flipV="1">
              <a:off x="7219080" y="2814120"/>
              <a:ext cx="11174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rec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mni (360 grados de cobertura) direc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al (rango limitado de cobertu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do en dBi y dBd. (0dBd = 2.14dB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s ganancia significa mas cobertura –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en ciertas direc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lar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en polarización ver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0:13:36Z</dcterms:created>
  <dc:creator>Arnis</dc:creator>
  <dc:description/>
  <dc:language>en-US</dc:language>
  <cp:lastModifiedBy>Alfonso Urbina Araux</cp:lastModifiedBy>
  <dcterms:modified xsi:type="dcterms:W3CDTF">2006-02-24T00:03:41Z</dcterms:modified>
  <cp:revision>82</cp:revision>
  <dc:subject/>
  <dc:title>Slide 1</dc:title>
</cp:coreProperties>
</file>